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516-7EAB-4AA3-BB09-70A152BD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D12-E081-4A73-952C-391BE4ED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B98-2F19-4F16-96D3-6625CD3F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670-98CD-4348-AD50-3F5D6BAB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C2FF-F874-4902-BDD4-EB311984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1561-B034-4C6C-BCC8-BBE5224D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AFBD-4CFB-4840-804E-A425885A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E0CD-65F9-416E-9F13-24E3519C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8AD0-39C4-4A63-8243-95CEFC8E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8787-2823-4D22-B5EA-286F4DF3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123E-9F44-4939-B27F-1A93E98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51C-7329-4108-9579-D1CF9861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F67A-51C8-4216-853B-EDAA115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3CB5-BFD7-4572-9F4C-04343489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0A0F-35C0-47E1-BB9C-49F82CD3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D938-64F7-4779-8869-56FE43AB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2683-08D8-4839-80E5-CC25BDC6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E51-CB63-405A-95FF-3374A0B1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1E4-E4F1-48C9-8122-88D8B277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A96-7406-48B8-B234-FADAC1FD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FAC-BD4C-4D52-BF17-4561B16D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6C1-AF7D-44DC-B009-ED4E10C9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9A9-B1C9-4280-9F6A-92AFC2BF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E30-8B40-4DF6-8964-BD54B68D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D47-F359-4C99-B182-441F885D453E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60F0-8A02-4BB3-954D-50D167FC0FC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454680"/>
            <a:ext cx="7315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18960" y="3733920"/>
            <a:ext cx="721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a responsabilità professiona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16 aprile 2010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533520"/>
            <a:ext cx="7597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zienda Ospedaliera “G: Salvini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Prevenzione e trattamento delle lesioni da pressione: ruolo dell’infermiere re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15000" y="3841920"/>
            <a:ext cx="3249720" cy="30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392040"/>
            <a:ext cx="77724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3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84872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gni professione che richiede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sapevolezza dell’ag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 capacità d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ndere decision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rta come conseguenz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’assunzione di responsabilit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00000" y="4437000"/>
            <a:ext cx="15764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5280" y="2147760"/>
            <a:ext cx="7162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609480"/>
            <a:ext cx="762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9280" y="2558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2286000"/>
            <a:ext cx="75438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’esercizio della professione  prevede l’ obbligo di esercitare co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PRUDENZ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PERIZIA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DILIGENZ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51640" y="2906640"/>
            <a:ext cx="273672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392040"/>
            <a:ext cx="77724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3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PONSABILITA’ DEL PROFESSIONISTA  INFERMIE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nomia professional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abilità individua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sponsabilit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abilità verso il paziente e i familiar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abilità verso strutture o risor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20000" y="3213000"/>
            <a:ext cx="1800000" cy="147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475200"/>
            <a:ext cx="77724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3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753920" y="335592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howcard Gothic"/>
              </a:rPr>
              <a:t>ET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87640" y="4076640"/>
            <a:ext cx="32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howcard Gothic"/>
              </a:rPr>
              <a:t>DEONTOLOG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24200" y="4797360"/>
            <a:ext cx="15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howcard Gothic"/>
              </a:rPr>
              <a:t>LEG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21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NTI CHIAVE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08720" y="2349360"/>
            <a:ext cx="1163880" cy="1827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187280" y="4896000"/>
            <a:ext cx="1872000" cy="154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357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808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cetto di responsabilità in campo giuridico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ENA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IVIL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SCIPLINARE/ORDINISTIC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703840" y="-84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93720" y="3209760"/>
            <a:ext cx="38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LO (volontarietà della condot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43680" y="393372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PA (non volontarietà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263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he cosa è la cartella infermieristica?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84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E' lo strumento per rendere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sibile, osservabile, misurabile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 evidente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il processo di assistenza infermieristica e l'applicazione del contenuto specifico del profilo professionale dell'infermie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4743360"/>
            <a:ext cx="2219400" cy="19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302760"/>
            <a:ext cx="723888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 Black"/>
              </a:rPr>
              <a:t>La cartella infermieristica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FINIZIONE</a:t>
            </a:r>
            <a:br>
              <a:rPr sz="3000"/>
            </a:b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fbfe"/>
                </a:solidFill>
                <a:latin typeface="Times New Roman"/>
              </a:rPr>
              <a:t>Strumento operativo gestito dall’infermiere. Raccoglie informazioni riguardanti ogni paziente, in maniera individualizzata ed è indispensabile per l’elaborazione del piano di assistenza che tenga conto del contesto socio/culturale ed assistenziale in cui si sviluppa, garantendo la continuità delle prestazioni</a:t>
            </a:r>
            <a:r>
              <a:rPr b="0" lang="en-US" sz="3200" spc="-1" strike="noStrike">
                <a:solidFill>
                  <a:srgbClr val="e4fbfe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 Black"/>
              </a:rPr>
              <a:t>La cartella infermieristica</a:t>
            </a:r>
            <a:br>
              <a:rPr sz="3600"/>
            </a:b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COPI</a:t>
            </a:r>
            <a:br>
              <a:rPr sz="3000"/>
            </a:br>
            <a:endParaRPr b="0" lang="en-US" sz="3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fbf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fbfe"/>
                </a:solidFill>
                <a:latin typeface="Times New Roman"/>
              </a:rPr>
              <a:t>Unicità e personalizzazione dell’assistenza infermieristic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fbf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fbfe"/>
                </a:solidFill>
                <a:latin typeface="Times New Roman"/>
              </a:rPr>
              <a:t>Integrazione tra i membri dell’equipe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fbf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fbfe"/>
                </a:solidFill>
                <a:latin typeface="Times New Roman"/>
              </a:rPr>
              <a:t>Completezza delle informazioni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fbf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fbfe"/>
                </a:solidFill>
                <a:latin typeface="Times New Roman"/>
              </a:rPr>
              <a:t>Raccolta omogenea e sistematica dei dati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fbf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fbfe"/>
                </a:solidFill>
                <a:latin typeface="Times New Roman"/>
              </a:rPr>
              <a:t>Pianificazione scritta  dell’assistenza da erogare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fbf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fbfe"/>
                </a:solidFill>
                <a:latin typeface="Times New Roman"/>
              </a:rPr>
              <a:t>Valutazione degli interventi assistenziali attraverso indicatori di salute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fbf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fbfe"/>
                </a:solidFill>
                <a:latin typeface="Times New Roman"/>
              </a:rPr>
              <a:t>Conservazione della “storia” del paziente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fbf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fbfe"/>
                </a:solidFill>
                <a:latin typeface="Times New Roman"/>
              </a:rPr>
              <a:t>Documentazione degli atti assistenziali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3852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 Black"/>
              </a:rPr>
              <a:t>La </a:t>
            </a: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 Black"/>
              </a:rPr>
              <a:t>cartella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 Black"/>
              </a:rPr>
              <a:t> infermieristica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BIETTIVI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Uniformare il quadro concettuale di riferimento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Uniformare lo strumento di lavoro infermieristico all’interno della Aziend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trutturare lo  strumento nel rispetto degli standard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qualitativi di Joint Commission International (JCI)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3236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ccffff"/>
                </a:solidFill>
                <a:uFillTx/>
                <a:latin typeface="Arial Black"/>
              </a:rPr>
              <a:t>La cartella infermieristica</a:t>
            </a:r>
            <a:br>
              <a:rPr sz="3800"/>
            </a:br>
            <a:r>
              <a:rPr b="0" lang="en-US" sz="38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VOLTI LEGALI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’art. 1 della legge 251/00 ribadisce che gli infermieri svolgono con autonomia professionale,attività dirette  alla prevenzione, alla cura e alla salvaguardia della salute ….  utilizzando metodologie di pianificazione per obiettivi dell’assistenza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l manuale della cartella clinica della Regione Lombardia (2001) si cita … “è raccolta organica e funzionale dei dati attinenti ai singoli casi di ricovero, quali per esempio    …..   documentazione  dei professionisti sanitari non medici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979920"/>
            <a:ext cx="77724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3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unti di riflessio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entamento  giurisprudenzia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porto con gli assistiti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izzazione dei trattamenti ed evoluzione delle tecnich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516720" y="2276640"/>
            <a:ext cx="217656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236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ccffff"/>
                </a:solidFill>
                <a:uFillTx/>
                <a:latin typeface="Arial Black"/>
              </a:rPr>
              <a:t>La cartella infermieristica</a:t>
            </a:r>
            <a:br>
              <a:rPr sz="3800"/>
            </a:br>
            <a:r>
              <a:rPr b="0" lang="en-US" sz="38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VOLTI LEGALI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artella infermieristica è Atto pubblico in senso lato (la sua adozione è riconosciuta nel D.P.R. 384 del 1990) perché redatto da un incaricato di pubblico servizio nell'esercizio delle sue funzioni (art. 358 del Codice Penale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 quanto concerne la regolare compilazione, il segreto e la conservazione sono applicabili le normative dedicate alla cartella clinic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164360" y="4962600"/>
            <a:ext cx="1511280" cy="17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186480"/>
            <a:ext cx="777240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ffff"/>
                </a:solidFill>
                <a:uFillTx/>
                <a:latin typeface="Arial Black"/>
              </a:rPr>
              <a:t>La cartella infermieristica</a:t>
            </a:r>
            <a:br>
              <a:rPr sz="3400"/>
            </a:br>
            <a:r>
              <a:rPr b="0" lang="en-US" sz="3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ISVOLTI LEGALI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1989000"/>
            <a:ext cx="7489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a documentazione infermieristica , come tutti gli atti che documentano una  attività svolta per un paziente, ha  rilevanza leg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me citato anche nel Manuale della Cartella Clinica (R.L. 2001/2007) “la C.C. comprende diversi documenti, correlati con le attività cliniche-assistenziali e riabilitative che possono caratterizzare le fasi di un ricovero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70600" y="5016600"/>
            <a:ext cx="2273400" cy="18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3236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ccffff"/>
                </a:solidFill>
                <a:uFillTx/>
                <a:latin typeface="Arial Black"/>
              </a:rPr>
              <a:t>La cartella infermieristica</a:t>
            </a:r>
            <a:br>
              <a:rPr sz="3800"/>
            </a:br>
            <a:endParaRPr b="0" lang="en-US" sz="3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apevolezza dell’importanza dello strumento nella gestione  del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ambiamento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 fini del miglioramento della qualità assistenzia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orizzazione del document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ozione del metodo del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cesso di assistenz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 consente di erogare correttamente ed in modo personalizzato l’assistenz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e evidenza all’assistenza infermieristica prestat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orizzare la prestazio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stione e sviluppo della risorsa uman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187200"/>
            <a:ext cx="7772400" cy="10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 Black"/>
              </a:rPr>
              <a:t>La cartella </a:t>
            </a:r>
            <a:r>
              <a:rPr b="0" lang="en-US" sz="3800" spc="-1" strike="noStrike" u="sng">
                <a:solidFill>
                  <a:srgbClr val="ccffff"/>
                </a:solidFill>
                <a:uFillTx/>
                <a:latin typeface="Arial Black"/>
              </a:rPr>
              <a:t>infermieristica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CLUSIONI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560" y="2204640"/>
            <a:ext cx="7489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cartella infermieristica è quindi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imes New Roman"/>
              </a:rPr>
              <a:t>uno  strumento documenta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e”, flessibile , adattabile e  suscettibile di continuo aggiornamento,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ado di evidenziare la professionalità dell’infermiere  nell’espletamento della sua attività ed il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rretto comportamento documentabi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qualsiasi momento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2920" y="493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 Black"/>
              </a:rPr>
              <a:t>La cartella infermieristica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quisiti delle notizie riport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ciabilit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arezza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ratezza / appropriatezza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idicità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ualit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tinenz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zz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0360" y="2924280"/>
            <a:ext cx="295128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920" y="43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31640" y="2060280"/>
            <a:ext cx="75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 conclusione …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’infermiere, proprio in funzione dell’accresciuto livello  di autonomia  professionale non può sentirsi esonerato dalla sua specifica responsabilità;  la consapevolezza delle proprie responsabilità va vista non  solo in un ottica difensiva di tutela della propria posizione, ma come occasione di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miglioramento in termini di efficacia e  di efficienza, della risposta assistenziale ai bisogni dell’utenza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Times New Roman"/>
              </a:rPr>
              <a:t>Bibliografia:</a:t>
            </a: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Times New Roman"/>
              </a:rPr>
              <a:t>dalla rivista  Professione Infermiere “La responsabilità infermieristica nel Wound Care”</a:t>
            </a: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Times New Roman"/>
              </a:rPr>
              <a:t>dalla rivista  “ L’ Infermiere “  04/08</a:t>
            </a: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Times New Roman"/>
              </a:rPr>
              <a:t>da “Nuovo codice  deontologico dell’infermiere “ - C. Calamandrei . L, D’Addio</a:t>
            </a: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Times New Roman"/>
              </a:rPr>
              <a:t>Da “L’evoluzione dell’autonomia e della responsabilità giuridica dell’infermiere e dell’ostetrica” di L. Benci</a:t>
            </a: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Times New Roman"/>
              </a:rPr>
              <a:t>Da  “la documentazione infermieristica” di McGraw-Hill</a:t>
            </a: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Times New Roman"/>
              </a:rPr>
              <a:t>Da “la nuova responsabilità per l’infermiere” – A. De Toni</a:t>
            </a: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22800"/>
            <a:ext cx="77724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3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 la Legge n. 42 del 26/2/99 si sono definiti due importanti elementi della vita professionale dell'infermiere: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 l'abolizione del DPR 225/74 conosciuto come il "Mansionario".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 sostituzione della definizione "professione sanitaria ausiliaria" con la definizione "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professione sanitari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".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378936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715680"/>
            <a:ext cx="769608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04988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lito il mansionario, “i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mpo propr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i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tività e responsabilit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dell’infermiere è dato da: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ROFILO PROFESSIONALE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RDINAMENTO DIDATTICO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ODICE DEONTOLOGICO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80648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475200"/>
            <a:ext cx="77724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3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Legge n. 42 del 26/2/99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3860640"/>
            <a:ext cx="1441440" cy="1440000"/>
          </a:xfrm>
          <a:custGeom>
            <a:avLst/>
            <a:gdLst>
              <a:gd name="textAreaLeft" fmla="*/ 192960 w 1441440"/>
              <a:gd name="textAreaRight" fmla="*/ 1248480 w 144144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5084640"/>
            <a:ext cx="2376360" cy="649440"/>
          </a:xfrm>
          <a:custGeom>
            <a:avLst/>
            <a:gdLst>
              <a:gd name="textAreaLeft" fmla="*/ 415800 w 2376360"/>
              <a:gd name="textAreaRight" fmla="*/ 1722960 w 2376360"/>
              <a:gd name="textAreaTop" fmla="*/ 86760 h 649440"/>
              <a:gd name="textAreaBottom" fmla="*/ 56268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2924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abili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19080" y="43084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vi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3357720"/>
            <a:ext cx="2016000" cy="64764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5240" y="429264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etenz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54960"/>
            <a:ext cx="7772400" cy="12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Arial Black"/>
              </a:rPr>
              <a:t>PROFILO PROFESSIONALE</a:t>
            </a:r>
            <a:br>
              <a:rPr sz="3000"/>
            </a:br>
            <a:r>
              <a:rPr b="1" lang="en-US" sz="3000" spc="-1" strike="noStrike">
                <a:solidFill>
                  <a:srgbClr val="ccffff"/>
                </a:solidFill>
                <a:latin typeface="Arial Black"/>
              </a:rPr>
              <a:t>(D.M. 739/94</a:t>
            </a:r>
            <a:r>
              <a:rPr b="1" lang="en-US" sz="4400" spc="-1" strike="noStrike">
                <a:solidFill>
                  <a:srgbClr val="ccffff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060640"/>
            <a:ext cx="741672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’infermiere è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sponsabil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ll’assistenza generale infermieristica. 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Identific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 i bisogni di assistenza infermieristica della persona e della collettività e formula i relativi obiettivi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ianifica, gestisce a valut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l’intervento assistenziale infermierist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arantisc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la corretta applicazione delle prescrizioni diagnostico-terapeutich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8400"/>
            <a:ext cx="77724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3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38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’infermiere è chiamato a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Prevedere i bisogn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e/o potenziali rischi della person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Scegliere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cidere le azioni migliori per favorire il benessere e l’autonomia della person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Agire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ttere in atto interventi di comprovata  efficacia e con abilità tecnico relazionale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Valutare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 risultati ovvero l’esito definitivo o conclusivo di un’azione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36040" y="5273640"/>
            <a:ext cx="140796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477360"/>
            <a:ext cx="7772400" cy="10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br>
              <a:rPr sz="3300"/>
            </a:br>
            <a:endParaRPr b="0" lang="en-US" sz="33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Legge 251 del 2000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2492280"/>
            <a:ext cx="770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rt. 1.     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(Professioni sanitarie infermieristiche e professione sanitaria ostetr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.  Gli operatori delle professioni sanitarie dell’area delle scienze infermieristiche e della professione sanitaria ostetrica svolgono con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autonomia professional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attività dirette alla prevenzione, alla cura e salvaguardia della salute individuale e collettiva, espletando le funzioni individuate dalle norme istitutive dei relativi profili professionali non chè dagli specifici codici deontologici ed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utilizzando metodologie di  pianificazione per  obiettivi dell’assistenz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464040"/>
            <a:ext cx="708804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Arial Black"/>
              </a:rPr>
              <a:t>Responsabilità infermieristica</a:t>
            </a:r>
            <a:endParaRPr b="0" lang="en-US" sz="33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ffffff"/>
                </a:solidFill>
                <a:latin typeface="Arial Black"/>
              </a:rPr>
              <a:t>COSA E’ CAMBIATO NELLO SCENARIO DELLA PROFESSIONE: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dall’eteronomia all’autonomia professionale e decisiona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dalla mansione fine a se stessa al risultato assistenzia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dall’assistenza al medico all’assistenza al pazien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dall’assistenza su chiamata all’assistenza programmat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Scelta  assistenziale e verifica dei risultati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NON  C’E’ AUTONOMIA  PROFESSIONALE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SENZA RESPONSABILITA’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F.D. Marilena Boso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3:36:02Z</dcterms:created>
  <dc:creator>admin</dc:creator>
  <dc:description/>
  <dc:language>en-US</dc:language>
  <cp:lastModifiedBy>formazione</cp:lastModifiedBy>
  <dcterms:modified xsi:type="dcterms:W3CDTF">2010-04-16T09:59:59Z</dcterms:modified>
  <cp:revision>52</cp:revision>
  <dc:subject/>
  <dc:title> </dc:title>
</cp:coreProperties>
</file>